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2362-02EB-497B-994A-4A2A07312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CE21-B402-4223-9B48-7582D493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2A03-E207-48A2-95AA-9592ABFE8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B224-147E-477F-84D4-49AEA1049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A5A6-EDA3-4AB9-BF01-363E722D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3C35-2533-45E7-BB74-5459A52B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EB23-6835-401B-9461-2F545930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E0C2-7440-4A95-B8AF-27CB1173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F4B4-175B-48EA-BCB2-3DAA899A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E945-7DF1-4271-A8A8-3FF34906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36BA-00DE-4475-9428-88F2269A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F6ED-70F4-405B-984D-BE4D32B5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D574-C0A6-430C-A085-41DF07BD12C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1484280"/>
            <a:ext cx="8665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سد الذرائع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حريم كل وسيلة تؤدي إلى الممنو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27160" y="2205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ما أدى إلى الحرا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هو حرا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2924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أمر بالمعروف والنهي عن المنكر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3645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طوق النجاة وسبب دفع العذاب هو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مر بالمعروف والنهي عن المنك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250920" y="4221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أمر بالمعروف والنهي عن المنكر : طوق النجاة وسبب دفع العذاب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6" descr=""/>
          <p:cNvPicPr/>
          <p:nvPr/>
        </p:nvPicPr>
        <p:blipFill>
          <a:blip r:embed="rId2"/>
          <a:stretch/>
        </p:blipFill>
        <p:spPr>
          <a:xfrm>
            <a:off x="1322280" y="4724280"/>
            <a:ext cx="7542360" cy="649440"/>
          </a:xfrm>
          <a:prstGeom prst="rect">
            <a:avLst/>
          </a:prstGeom>
          <a:ln w="0">
            <a:noFill/>
          </a:ln>
        </p:spPr>
      </p:pic>
      <p:sp>
        <p:nvSpPr>
          <p:cNvPr id="75" name="عنوان 1"/>
          <p:cNvSpPr/>
          <p:nvPr/>
        </p:nvSpPr>
        <p:spPr>
          <a:xfrm>
            <a:off x="250920" y="5516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الله تعالى عاقب الظالمين من اليهود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أن مسخهم فجعلهم قردة حقيق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8" name="عنوان 1"/>
          <p:cNvSpPr/>
          <p:nvPr/>
        </p:nvSpPr>
        <p:spPr>
          <a:xfrm>
            <a:off x="250920" y="2060640"/>
            <a:ext cx="85978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يكون عالماً بها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يكون مكلفا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ينكر المنكر ويأمر بالمعروف باللين والتدريج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549360" y="907920"/>
            <a:ext cx="84103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2" name="عنوان 1"/>
          <p:cNvSpPr/>
          <p:nvPr/>
        </p:nvSpPr>
        <p:spPr>
          <a:xfrm>
            <a:off x="250920" y="2924280"/>
            <a:ext cx="8597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له لا يحاسبنا على ما عمل الآخرون من المنكرات إذا أنكرنا المنكر وأمرنا بالمعرو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3"/>
          <a:stretch/>
        </p:blipFill>
        <p:spPr>
          <a:xfrm>
            <a:off x="395280" y="981000"/>
            <a:ext cx="84218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75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569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25360" y="1628640"/>
            <a:ext cx="869148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يد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لسان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قل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</a:t>
            </a:r>
            <a:r>
              <a:rPr b="1" lang="ar-SA" sz="23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 : ((من رأى منكم منكراً فليغيره بيده فإن لم يستطع فبلسانه فإن لم يستطع فبقلبه )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0" descr=""/>
          <p:cNvPicPr/>
          <p:nvPr/>
        </p:nvPicPr>
        <p:blipFill>
          <a:blip r:embed="rId3"/>
          <a:stretch/>
        </p:blipFill>
        <p:spPr>
          <a:xfrm>
            <a:off x="3605040" y="907920"/>
            <a:ext cx="5334120" cy="609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4"/>
          <a:stretch/>
        </p:blipFill>
        <p:spPr>
          <a:xfrm>
            <a:off x="326880" y="2957400"/>
            <a:ext cx="8612280" cy="550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5"/>
          <a:stretch/>
        </p:blipFill>
        <p:spPr>
          <a:xfrm>
            <a:off x="1906560" y="4819680"/>
            <a:ext cx="7008840" cy="62244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223920" y="3573360"/>
            <a:ext cx="86914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- فرقة فعلت المنك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- فرقة لم تنكر المنك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- فرقة أنكرت المنك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عنوان 1"/>
          <p:cNvSpPr/>
          <p:nvPr/>
        </p:nvSpPr>
        <p:spPr>
          <a:xfrm>
            <a:off x="223920" y="566100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كر عليه المعصية باللسان وإبلاغ الجهات المختصة عن هذا المنك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50"/>
          <a:stretch/>
        </p:blipFill>
        <p:spPr>
          <a:xfrm>
            <a:off x="250920" y="1552680"/>
            <a:ext cx="86421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34800" y="1773360"/>
            <a:ext cx="85582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8496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250920" y="812880"/>
            <a:ext cx="864216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2195640" y="981000"/>
            <a:ext cx="496872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50920" y="2309760"/>
            <a:ext cx="8642160" cy="4343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250920" y="784080"/>
            <a:ext cx="8673840" cy="1276560"/>
          </a:xfrm>
          <a:prstGeom prst="rect">
            <a:avLst/>
          </a:prstGeom>
          <a:ln w="0">
            <a:noFill/>
          </a:ln>
        </p:spPr>
      </p:pic>
      <p:sp>
        <p:nvSpPr>
          <p:cNvPr id="54" name="عنوان 1"/>
          <p:cNvSpPr/>
          <p:nvPr/>
        </p:nvSpPr>
        <p:spPr>
          <a:xfrm>
            <a:off x="324000" y="1052640"/>
            <a:ext cx="338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قصة أصحاب السبت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430200" y="522936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فلما تجاوزوا في معصية الله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417600" y="595008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سخهم قرد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3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قوله تعالى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عريف اليهود بأن ذلك مما يعلمه الرسول </a:t>
            </a:r>
            <a:r>
              <a:rPr b="1" lang="ar-SA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ما علمه الله فيكون دليلاً على صدق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60280" y="2565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يختبر عباد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ما يظهر صدقهم أو كذب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0680" y="3357720"/>
            <a:ext cx="8666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ن اختبار الله لعباد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مر الله به اليهود من تعظيم يوم السبت وأن لا يصيدوا فيه صيداً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00160" y="4076640"/>
            <a:ext cx="8665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حيل المؤدية إلى تعطيل شرع الله وتجاوز حدوده وارتكاب محارمه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طل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4797360"/>
            <a:ext cx="866592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على الحيل المؤدية إلى تعطيل شرع الله وتجاوز حدوده وارتكاب محارم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ما فعل اليهود حين وضعوا الشباك في البحر يوم الجمعة للصيد ثم يخرجونها يوم الأحد ويقولون : لم نعمل يوم السبت شيئ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5805360"/>
            <a:ext cx="8665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سد الذرائع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شرو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"/>
          <p:cNvPicPr/>
          <p:nvPr/>
        </p:nvPicPr>
        <p:blipFill>
          <a:blip r:embed="rId2"/>
          <a:stretch/>
        </p:blipFill>
        <p:spPr>
          <a:xfrm>
            <a:off x="4067280" y="1392120"/>
            <a:ext cx="345744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